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058-B609-493E-8E8A-59C84D56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228-6594-47F3-86E3-72A8240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0B6-3637-4C3F-82C4-D5262044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ABA-9932-4430-93E5-98B0630E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31E4-03A4-4E91-B0D5-11184479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585-D752-455A-9847-39C4096E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B6F9-EF4B-4B00-B112-D58856A2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B71-2D5D-489A-B2F8-99EB3896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DD5E-3473-4297-82E1-04CB675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DC85-26DC-42F9-A6B2-006F1AF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0A1E-E75B-4A9A-A6B7-AAF826E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5EC-E165-42CD-9D12-A4AA9AEC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946B-9DF1-4833-B153-052BFAAB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A56F-0115-441E-A9D1-B07A51A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C0D6-B640-4517-A9DB-E67619C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237-44D4-495C-93F1-2D7D42C7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A306-3616-473B-8CCD-DE1B2EB8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83B-72F5-4D8E-9D96-AA7C349E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567-2C7A-46B7-9687-DC09E623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89A-A1FE-4759-B9B8-E3F23430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E12-0C66-486B-86B9-3ECB3243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101-0E89-4A6C-AB93-F563CA6A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855-6898-418A-B404-42D8A69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B56-68BB-4E7B-97CE-63B7394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C272-D750-40B3-85D3-4565FA1F6E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454B-821B-42C7-8EA3-15F232ECA3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5" descr="geneve"/>
          <p:cNvPicPr/>
          <p:nvPr/>
        </p:nvPicPr>
        <p:blipFill>
          <a:blip r:embed="rId1"/>
          <a:stretch/>
        </p:blipFill>
        <p:spPr>
          <a:xfrm>
            <a:off x="3635280" y="2852640"/>
            <a:ext cx="2705040" cy="365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1001880" cy="10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Genève est la deuxième ville de Suiss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1" descr=""/>
          <p:cNvPicPr/>
          <p:nvPr/>
        </p:nvPicPr>
        <p:blipFill>
          <a:blip r:embed="rId1"/>
          <a:stretch/>
        </p:blipFill>
        <p:spPr>
          <a:xfrm>
            <a:off x="3780000" y="508464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2881440" cy="213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"/>
          <p:cNvPicPr/>
          <p:nvPr/>
        </p:nvPicPr>
        <p:blipFill>
          <a:blip r:embed="rId3"/>
          <a:stretch/>
        </p:blipFill>
        <p:spPr>
          <a:xfrm>
            <a:off x="5651640" y="3357720"/>
            <a:ext cx="266688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’est une importante ville international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8876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s </a:t>
            </a:r>
            <a:r>
              <a:rPr b="0" lang="fr-CH" sz="3600" spc="-1" strike="noStrike">
                <a:solidFill>
                  <a:srgbClr val="000000"/>
                </a:solidFill>
                <a:latin typeface="Verdana"/>
              </a:rPr>
              <a:t>Fêtes de Genève sont un événement importa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44654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on célèbre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Jet d’Eau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fait 140 mètres de hau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635280" y="3141720"/>
            <a:ext cx="2303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Verdana"/>
              </a:rPr>
              <a:t>Les paysages de la région sont très beaux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il_fi" descr="1316599034"/>
          <p:cNvPicPr/>
          <p:nvPr/>
        </p:nvPicPr>
        <p:blipFill>
          <a:blip r:embed="rId1"/>
          <a:stretch/>
        </p:blipFill>
        <p:spPr>
          <a:xfrm>
            <a:off x="933480" y="2811600"/>
            <a:ext cx="2449440" cy="1625400"/>
          </a:xfrm>
          <a:prstGeom prst="rect">
            <a:avLst/>
          </a:prstGeom>
          <a:ln w="0">
            <a:noFill/>
          </a:ln>
        </p:spPr>
      </p:pic>
      <p:pic>
        <p:nvPicPr>
          <p:cNvPr id="110" name="il_fi" descr="http://www.surfriderleman.fr/Files/76555/Img/01/Geneve.jpg"/>
          <p:cNvPicPr/>
          <p:nvPr/>
        </p:nvPicPr>
        <p:blipFill>
          <a:blip r:embed="rId2"/>
          <a:stretch/>
        </p:blipFill>
        <p:spPr>
          <a:xfrm>
            <a:off x="5654520" y="3284640"/>
            <a:ext cx="2982960" cy="1993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 Vignoble République"/>
          <p:cNvPicPr/>
          <p:nvPr/>
        </p:nvPicPr>
        <p:blipFill>
          <a:blip r:embed="rId3"/>
          <a:stretch/>
        </p:blipFill>
        <p:spPr>
          <a:xfrm>
            <a:off x="2556000" y="4621320"/>
            <a:ext cx="2869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 CERN, on a découvert le World Wide Web et le boson de Higg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il_fi" descr="cern-image1"/>
          <p:cNvPicPr/>
          <p:nvPr/>
        </p:nvPicPr>
        <p:blipFill>
          <a:blip r:embed="rId1"/>
          <a:stretch/>
        </p:blipFill>
        <p:spPr>
          <a:xfrm>
            <a:off x="1258920" y="3860640"/>
            <a:ext cx="3527280" cy="2044800"/>
          </a:xfrm>
          <a:prstGeom prst="rect">
            <a:avLst/>
          </a:prstGeom>
          <a:ln w="0">
            <a:noFill/>
          </a:ln>
        </p:spPr>
      </p:pic>
      <p:pic>
        <p:nvPicPr>
          <p:cNvPr id="115" name="il_fi" descr="lhc"/>
          <p:cNvPicPr/>
          <p:nvPr/>
        </p:nvPicPr>
        <p:blipFill>
          <a:blip r:embed="rId2"/>
          <a:stretch/>
        </p:blipFill>
        <p:spPr>
          <a:xfrm>
            <a:off x="5076720" y="3860640"/>
            <a:ext cx="356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Genè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n peut y manger des plats suisses comme la fondue ou le chocola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il_fi" descr="http://www3.unil.ch/wpmu/aesc/wp-content/uploads/fondue.jpg"/>
          <p:cNvPicPr/>
          <p:nvPr/>
        </p:nvPicPr>
        <p:blipFill>
          <a:blip r:embed="rId1"/>
          <a:stretch/>
        </p:blipFill>
        <p:spPr>
          <a:xfrm>
            <a:off x="900000" y="3789360"/>
            <a:ext cx="3081600" cy="2212920"/>
          </a:xfrm>
          <a:prstGeom prst="rect">
            <a:avLst/>
          </a:prstGeom>
          <a:ln w="0">
            <a:noFill/>
          </a:ln>
        </p:spPr>
      </p:pic>
      <p:pic>
        <p:nvPicPr>
          <p:cNvPr id="119" name="il_fi" descr="http://www.swissinfo.ch/media/cms/images/null/2006/04/sriimg20060413_6627809_1.jpg"/>
          <p:cNvPicPr/>
          <p:nvPr/>
        </p:nvPicPr>
        <p:blipFill>
          <a:blip r:embed="rId2"/>
          <a:stretch/>
        </p:blipFill>
        <p:spPr>
          <a:xfrm>
            <a:off x="5148360" y="3789360"/>
            <a:ext cx="3095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0:12:09Z</dcterms:created>
  <dc:creator>CEC</dc:creator>
  <dc:description/>
  <dc:language>en-US</dc:language>
  <cp:lastModifiedBy>Delphine Gachet</cp:lastModifiedBy>
  <dcterms:modified xsi:type="dcterms:W3CDTF">2013-02-24T12:34:23Z</dcterms:modified>
  <cp:revision>5</cp:revision>
  <dc:subject/>
  <dc:title>Genève</dc:title>
</cp:coreProperties>
</file>